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5C3-7F88-4B96-BC2B-5A5E0187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52A-A352-419A-86C6-21D7E5B1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3F40-12D0-4102-AB5D-AE3E33D4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4E80-74B7-4396-84D6-8D1C584C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E27-8DAD-4677-B7FB-C7192367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116-844F-44D7-B76E-DE49F50D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1CB-0AF8-4F5B-A3B7-ECDECF59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B65-A9A9-49CA-862A-85EA4DCD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2BF4-2303-4086-9B31-1742DEEA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CCB-AAA3-4541-AAA8-AA91F020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0AC-C749-40FB-AA8C-86173874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1A2E-52B1-41A1-AEFB-15667CA9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254F-17C4-4C01-89F4-02B8DCAC1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uo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uo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uo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uo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uo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Buo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uo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uo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uo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uo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uo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9:40:55Z</dcterms:created>
  <dc:creator>fabio.medessi</dc:creator>
  <dc:description/>
  <dc:language>en-US</dc:language>
  <cp:lastModifiedBy>fabio.medessi</cp:lastModifiedBy>
  <dcterms:modified xsi:type="dcterms:W3CDTF">2010-08-10T10:01:10Z</dcterms:modified>
  <cp:revision>3</cp:revision>
  <dc:subject/>
  <dc:title>Presentazione di PowerPoint</dc:title>
</cp:coreProperties>
</file>